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DCA-0621-462A-9FF3-3832E4C2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3E9-036F-4ED9-9FF9-9EB3B95F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6CF-78B1-4348-91BB-FB942ED2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D65-BF88-4B32-AC5C-34B3480E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1E09-4463-49B2-8918-AD612826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C953-D0E0-48DC-A72D-C0C097A3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E515-22F9-43AE-BD82-B2A04F1B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98E9-0C98-4F8E-9519-C1591560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8273-7107-4ADE-AADB-C65F2072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57D2-7590-454C-AB8E-83A72925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EF6F-D0C4-4C59-986F-6F27AEA7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72E-0F8C-4E45-B312-710D73B9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81AA-F948-48B2-8423-CC2821F0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BDBE-D2DE-448D-A740-F047FB45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81D1-A6D7-4478-91DE-70DCFA92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A175-D7C9-42CA-9D2C-909A5FA6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2EBA-0209-47B8-AF6B-50E6AD89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AD68F-A48D-4BA0-BC89-BC63F9A9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0F0DA-A009-4DA5-AAD0-7A95DF70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2A3FF-22C5-47A3-B5CD-24AF1377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2EC86-03BF-4F99-A6D9-5FB5996D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ED042-032E-4414-9307-7388A741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272-8A7D-49C9-A48D-3D209AEE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D7925-ECD6-4FB8-A27C-86FD7D15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F6DF1-E954-472D-A637-D54EA2D5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2AF2C-C8D8-408E-97B2-73B12148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C2E75-6880-4774-A360-8775FF0A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C686F-1EC5-44FE-8BF9-3EA5D4D6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86A2B-3314-41BD-B046-E6D270D4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32D25-587A-41A2-8115-871E22CB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78837-C28B-4F4B-88E2-94A8DB8A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AD47B-899B-4A0F-8738-09E77641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5E3E0-5426-4BDF-B5EB-0A401A45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7C95-8CD0-42F9-9562-4B68C683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C520C-F1F6-4645-8336-19EED52D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7DCC1-4727-4781-8283-D82D9071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FE1CA-AF87-4A38-85AE-96E2C539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AD7A8-AFFD-4A8E-B65B-2A05F7FC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E9F53-6B3E-4F07-89AA-27F6391E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8F6C0-91F6-4461-B4DA-BF7CB123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E5E30-73E5-4F39-86D4-FA77E3BD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FFE7-E2EC-4CC2-A14D-A590D5B9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04C1D-C21E-452E-8BEF-0B1269B7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88C-DFEE-4836-9D0F-19AFCCA6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CDF-E0E5-46CE-8BBF-CEF469F3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1D3-316A-47A7-B40C-8BE20767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C56-E335-4446-9772-A0E691D4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226-528B-45CB-A2EF-EEB471F8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DE75-B057-483F-BF22-EB00B6F036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0653-0754-4405-BF24-3443C409AA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C076-1E71-4AD7-9F52-D52C8C3123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1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2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2134-0B99-4227-9597-81CEFC70DF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26920" y="4723920"/>
            <a:ext cx="5832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Зачем нужны дроби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16000" y="620640"/>
            <a:ext cx="595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Как возникли                   дроби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7" descr="school06-06"/>
          <p:cNvPicPr/>
          <p:nvPr/>
        </p:nvPicPr>
        <p:blipFill>
          <a:blip r:embed="rId1"/>
          <a:stretch/>
        </p:blipFill>
        <p:spPr>
          <a:xfrm rot="16642200">
            <a:off x="1166040" y="1362600"/>
            <a:ext cx="22748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ahoma"/>
              </a:rPr>
              <a:t>Вывод!!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Людям разных профессий необходимо уметь решать задачи на дроби, знать правила сложения и вычитания, умножения и деления дроб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5" descr="school08-02"/>
          <p:cNvPicPr/>
          <p:nvPr/>
        </p:nvPicPr>
        <p:blipFill>
          <a:blip r:embed="rId1"/>
          <a:stretch/>
        </p:blipFill>
        <p:spPr>
          <a:xfrm>
            <a:off x="5580000" y="4869000"/>
            <a:ext cx="331308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6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6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Спасибо за внимание!!!</a:t>
            </a:r>
            <a:br>
              <a:rPr sz="8800"/>
            </a:b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6" descr="school02-28"/>
          <p:cNvPicPr/>
          <p:nvPr/>
        </p:nvPicPr>
        <p:blipFill>
          <a:blip r:embed="rId1"/>
          <a:stretch/>
        </p:blipFill>
        <p:spPr>
          <a:xfrm>
            <a:off x="2843280" y="3884760"/>
            <a:ext cx="3313080" cy="29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«</a:t>
            </a: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Как возникли дроби</a:t>
            </a: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»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school10-04"/>
          <p:cNvPicPr/>
          <p:nvPr/>
        </p:nvPicPr>
        <p:blipFill>
          <a:blip r:embed="rId1"/>
          <a:stretch/>
        </p:blipFill>
        <p:spPr>
          <a:xfrm>
            <a:off x="6516720" y="4076640"/>
            <a:ext cx="237492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В каких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источниках впервые упоминается о дробях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1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гипетский математический кожаный свит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101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сковский математический папирус -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ина составляет 5,40 м, а его ширина от 4 до 7 см. (Он был составлен около 1850 до н. э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101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ревянная табличка Ахми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101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пирус Ринда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иток длиной 5,25 м. и шириной 33 см. (ок. 1650 до н. э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роби, какие они в Древнем Вавилон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700360" y="2420640"/>
            <a:ext cx="61927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Шестидесятеричны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обозначались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, время 3 ч 17 мин. 28 с можно записать и так: 3,17'28" ч (читается 3 целых, 17 шестидесятых 28 три тысячи шестисотых часа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school02-04"/>
          <p:cNvPicPr/>
          <p:nvPr/>
        </p:nvPicPr>
        <p:blipFill>
          <a:blip r:embed="rId1"/>
          <a:stretch/>
        </p:blipFill>
        <p:spPr>
          <a:xfrm>
            <a:off x="179280" y="2852640"/>
            <a:ext cx="25210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0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тношение к дробям в Древней Греци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читали, что дроби можно использовать только в логистике. Впервые встречается общее понятие дроби вида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m/n.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5" descr="school10-04"/>
          <p:cNvPicPr/>
          <p:nvPr/>
        </p:nvPicPr>
        <p:blipFill>
          <a:blip r:embed="rId1"/>
          <a:stretch/>
        </p:blipFill>
        <p:spPr>
          <a:xfrm>
            <a:off x="6012000" y="1844640"/>
            <a:ext cx="3132000" cy="475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Где стали записывать дробь с помощью числителя и знаменател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2852640"/>
            <a:ext cx="5986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ременную систему записи дробей с числителем и знаменателем создали в Индии. Только там писали знаменатель сверху, а числитель - снизу, и не писали дробной черты. А записывать дроби в точности, как сейчас, стали араб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school06-17"/>
          <p:cNvPicPr/>
          <p:nvPr/>
        </p:nvPicPr>
        <p:blipFill>
          <a:blip r:embed="rId1"/>
          <a:stretch/>
        </p:blipFill>
        <p:spPr>
          <a:xfrm>
            <a:off x="6588000" y="2924280"/>
            <a:ext cx="2376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570800" cy="32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ahoma"/>
              </a:rPr>
              <a:t>Зачем нужны дроби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school10-06"/>
          <p:cNvPicPr/>
          <p:nvPr/>
        </p:nvPicPr>
        <p:blipFill>
          <a:blip r:embed="rId1"/>
          <a:stretch/>
        </p:blipFill>
        <p:spPr>
          <a:xfrm>
            <a:off x="6696000" y="3716280"/>
            <a:ext cx="2448000" cy="2857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school08-01"/>
          <p:cNvPicPr/>
          <p:nvPr/>
        </p:nvPicPr>
        <p:blipFill>
          <a:blip r:embed="rId2"/>
          <a:stretch/>
        </p:blipFill>
        <p:spPr>
          <a:xfrm>
            <a:off x="179280" y="4653000"/>
            <a:ext cx="2808360" cy="18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Tahoma"/>
              </a:rPr>
              <a:t>Задачи, решаемые родителями в своей профессиональной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дитель – дальнобойщик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отправился в рейс из пункта А в пункт В, расстояние между которыми 369 км. В 13 ч 30 мин я проехал девятую часть пути. С какой скоростью мне нужно ехать, чтобы прибыть в фирму до её закрытия (закрывается в 18 ч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6" descr="MC900295709[1]"/>
          <p:cNvPicPr/>
          <p:nvPr/>
        </p:nvPicPr>
        <p:blipFill>
          <a:blip r:embed="rId1"/>
          <a:stretch/>
        </p:blipFill>
        <p:spPr>
          <a:xfrm>
            <a:off x="6921360" y="981000"/>
            <a:ext cx="2222640" cy="144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Электрик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1810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лина провода 12 м. На ремонт стальной лампы израсходовал ¼ этого куска. Хватит ли мне оставшегося провода, чтобы заменить проводку в комнате размером 3х4 (замену нужно произвести по двум смежным стенам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6" descr="MC900240685[1]"/>
          <p:cNvPicPr/>
          <p:nvPr/>
        </p:nvPicPr>
        <p:blipFill>
          <a:blip r:embed="rId1"/>
          <a:stretch/>
        </p:blipFill>
        <p:spPr>
          <a:xfrm>
            <a:off x="6696000" y="2708280"/>
            <a:ext cx="244800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4:57:13Z</dcterms:created>
  <dc:creator>Admin</dc:creator>
  <dc:description/>
  <dc:language>en-US</dc:language>
  <cp:lastModifiedBy>25009</cp:lastModifiedBy>
  <dcterms:modified xsi:type="dcterms:W3CDTF">2010-06-07T10:47:53Z</dcterms:modified>
  <cp:revision>13</cp:revision>
  <dc:subject/>
  <dc:title>Зачем нужны дроби?</dc:title>
</cp:coreProperties>
</file>